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4F06-73AE-46F4-9375-212618D8B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1C1D-E186-4E4F-B28F-3CE8386FB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6FD5-D39A-4066-A6A7-142ECBC82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224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6656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43828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224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6656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924-B4E3-4915-9A32-D8851CC62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6559-BA7C-484D-A7A6-7BD5A4520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61E8-361D-42DF-9A31-E93DCA09D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432B-E969-4D44-846B-98A98CF2B5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2306-05C8-4192-A645-AC362F0AD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470C-761B-4E99-94C8-A55FDED77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AA85-AB5E-4410-8BC7-1C0972853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9EDC-B702-4979-AAD5-C6667383B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893B-AC52-4D31-A3FE-551740C15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8AC8-3423-4159-B5FE-619DDE949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FAAB-A720-4D22-B7C5-3D725DD18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8169-DF65-4B2A-91A7-09932777EA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FD05-2326-42DE-9FAF-8C760CBC2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224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66560" y="159984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3828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224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66560" y="4346280"/>
            <a:ext cx="20606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5FD7-392E-4110-8248-3B6AD2A0B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75B1-315A-4C34-A597-DF0C32C84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3B31-B97A-469C-9F76-5DCB1E94D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F890-FC02-48FB-9F68-796D82A42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3F66-807C-471A-B2B7-EB6B647FA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7A64-F8DF-48E4-81F7-89A438A3C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8240" y="434628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A033-F33D-4728-B4D6-8CF3106EC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599840"/>
            <a:ext cx="3123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4346280"/>
            <a:ext cx="6400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EB67-4044-4D29-A0F8-3B0BE6C2C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83432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07FA-D263-4D81-B7E6-80247339075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tIns="50760" bIns="50760" anchor="ctr">
            <a:normAutofit fontScale="34000"/>
          </a:bodyPr>
          <a:p>
            <a:pPr marL="133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c36c03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c36c03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7580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AC45-D5DD-48E5-840D-B0B5B70965F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good.org/assets/attachments/29.pdf" TargetMode="External"/><Relationship Id="rId3" Type="http://schemas.openxmlformats.org/officeDocument/2006/relationships/hyperlink" Target="http://www.keystosaferschools.com/Reports/Order%2520in%2520the%2520Classroom-Violence,%2520Discipline.pdf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133720"/>
            <a:ext cx="6400800" cy="262872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gative Effect on Student Development caused by the Lack of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440" y="5562360"/>
            <a:ext cx="6033960" cy="1143000"/>
          </a:xfrm>
          <a:prstGeom prst="rect">
            <a:avLst/>
          </a:prstGeom>
          <a:solidFill>
            <a:srgbClr val="ffffff">
              <a:alpha val="49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50760" rIns="81360" tIns="50760" bIns="50760" anchor="ctr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Research Paper: EDU 702.22/Spring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acqueline Hol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eferences Continued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mi, Hunter. (2009). Academic Instructors or Moral Guides? Moral Education in America and the Teacher’s Dilemma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learing House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2(3), 125-130. Retrieved from Academic Search Complete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6083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ble, R., Hester, P., Hester, L., Hendrickson, J., &amp; Sze, S. (2005). Cognitive, Affective, and Relational Dimensions of Middle School Students: Implications for Improving Discipline and Instruction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learing House: A Journal of Educational Strategies, Issues and Ide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79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), 40. Retrieved from ERIC database: EJ7251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nton, Sue. (2008). The appeal(s) of character education in threatening times: caring and critical democratic response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Comparative Education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44(3), 305-316. Retrieved from Academic Search Complete:334186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81040" y="6248520"/>
            <a:ext cx="22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C5EB-0600-494C-AA75-5CD14628991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5c"/>
                </a:solidFill>
                <a:latin typeface="Arial"/>
              </a:rPr>
              <a:t>Table of 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Related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’s: Character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lnSpc>
                <a:spcPct val="100000"/>
              </a:lnSpc>
              <a:spcBef>
                <a:spcPts val="601"/>
              </a:spcBef>
              <a:buClr>
                <a:srgbClr val="c58bf9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’s: Charact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5c2f7d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005c"/>
                </a:solidFill>
                <a:latin typeface="Arial"/>
              </a:rPr>
              <a:t>Statement of Probl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iscipline not being effectively enforced within the school, as well as within the home, the learning environment is being challenged. Teachers constantly deal with disruptive behavior in a classroom, thereby taking away from the teaching time. For every disruptive student there is a decline in academic achievement, which in turn affects the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Review of Related Literature:</a:t>
            </a:r>
            <a:br>
              <a:rPr sz="2800"/>
            </a:b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Prior Research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400800" cy="528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ever, the public perception is that student behavior is out of contro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monsen, B., Sugai, G., &amp; Negron, M. 2008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ay a heavy price academically when schools tolerate the chornic bad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ublic Agend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you have order and civility, not much learning will go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arton,Paul E; Coley, Richard J; and Wenglinsky, Harold.1998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ents zeal and tenacity to excel sometimes become side tracked by distractions and disruptions in the classroo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ith,Charles J.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Review of Related Literature:</a:t>
            </a:r>
            <a:br>
              <a:rPr sz="2800"/>
            </a:b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Current Instructional Strategies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Mediation: “empowers students to work out differences constructively and work towards solu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Varnham, Sally.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wide Positive Behavior Supports: “systems-level approach that enables schools to effectively and efficiently support student behavior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monsen, B., Sugai, G., &amp; Negron, M. 200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DE: plan for success, read, improve your grades, develop your character, enjoy your d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nks, Clarisse Butler.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Statement of the Hypothesi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mplementing character education in P.S X, twice a week over a six week period, not only will a positive and safe environment occur but academic achievement will 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ypothesis will be tested through classroom observations, test scores and daily informal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Pro’s: Character Educ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eachers stress social skills in the classroom and create a climate of cooperation and respect for others, there are fewer discipline problems and less negative behavior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cArthur,Janice R.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aining knowledge of internal factors as well as external factors, we can respond more effectively to the problem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ble, Robert; Hester, Peggy; Hester, Larry; Hendrickson, Jo-Mary; Sze, Susan.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education promotes academic excellence because it lays a foundation for all learning that takes place in school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nton, Sue.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59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2914-0DEC-4CC9-8EA8-C72CD60A47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Con’s: Character Educ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st: Lawrence Kohl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69369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ages of Mo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evelop their moral judgement in sequenced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499"/>
              </a:spcBef>
              <a:buClr>
                <a:srgbClr val="693690"/>
              </a:buClr>
              <a:buSzPct val="68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telling kids how to act, rely on the students to discover how to act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imi,Hunter.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159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515C-1909-406A-AE5A-02C5173364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9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142640"/>
            <a:ext cx="6400800" cy="53211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Simonsen, B., Sugai, G., &amp; Negron, M. (2008). Schoolwide Positive Behavior Supports: Primary Systems and Practices.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TEACHING Exceptional Children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40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(6), 32-40. Retrieved from ERIC database:EJ85266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Public Agenda, and Common Good. (2004). Teaching Interrupted: Do Discipline Policies in Today’s Public Schools Foster the Common Good?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Public Agenda.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Retrieved from: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mmongood.org/assets/attachments/29.pd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Barton,Paul E; Coley, Richard K; and Wenglinsky, Harold. (1998). Order in the Classroom:Violence, Discipline and Student Achievement. </a:t>
            </a:r>
            <a:r>
              <a:rPr b="0" lang="en-US" sz="1300" spc="-1" strike="noStrike">
                <a:solidFill>
                  <a:srgbClr val="333333"/>
                </a:solidFill>
                <a:latin typeface="Arial Italic"/>
                <a:ea typeface="Arial Italic"/>
              </a:rPr>
              <a:t>Policy Information Center:Research Division.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Princeton, NJ:Educational Testing Service. Retrieved from Key to Saferschool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keystosaferschools.com/Reports/Order%20in%20the%20Classroom-Violence,%20Discipline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ith, Charles J. (2001). School Discipline and Classroom Management: A Must for Improved Instruction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Walden University Cyberspace Chapter of PDK Internation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Retrieved from Walden PDK on March 19, 2010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aldenpdk.org/newsletters/Smith_SchoolDiscip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rnham, Sally. (2005)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ing Things Differently: Restorative Justice and School Discipline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Education and the Law,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(3), 87-104. Retrieved from ERIC database: EJ8201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tler-Banks, Clarisse. (February, 4 2010). PRIDE in school and self: Waterloo Middle School uses character education to improve academic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New York Teacher,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(9), 18-19. Retrieved from New York Teacher pub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cArthur, Janice R. (2002). They Why, What, and How of Teaching Children Social Skills. </a:t>
            </a:r>
            <a:r>
              <a:rPr b="0" lang="en-US" sz="1300" spc="-1" strike="noStrike">
                <a:solidFill>
                  <a:srgbClr val="000000"/>
                </a:solidFill>
                <a:latin typeface="Arial Italic"/>
                <a:ea typeface="Arial Italic"/>
              </a:rPr>
              <a:t>Social Studi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93(4), 183-185. Retrieved from ERIC database:EJ77013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D02D-5349-476F-B103-6704C8A7DC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/>
  <cp:revision>0</cp:revision>
  <dc:subject/>
  <dc:title>Slide 1</dc:title>
</cp:coreProperties>
</file>